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8CAC-F64B-48C9-8189-CBC6ECAB2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38C9-A759-4417-9064-F3CC765FC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60FD-40D6-4392-A659-1718CCEE8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3420-550D-49EC-9070-84C04778F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D4764-6D29-4210-8B9E-8E38E592B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E6C4B-E970-4278-970E-DA242D0C7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92941-BEA6-479A-8850-2047CD5C1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5D808-3C70-403D-8F93-B679303AA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27AC2-CAC6-4D5C-9B46-06195FB43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A9544-36F5-45BB-ABBE-D001E6693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B6E06-FC05-4CBD-B581-86A6E56F2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960D-6FBC-486C-A8BB-552DE4364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3D7E3-58BE-46BC-A5A7-73230783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1A293-73BC-4EA7-8963-F0EBE8E8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00043-54DD-4175-BBC6-483FDCC5B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A6D6B-7200-4B5B-A92A-95AA942C5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AFEF5-FCAA-403B-BD1D-43BDCEE2D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4A63-EF90-4FCA-896A-CBB689035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3509-D5DD-490A-B99B-039413AAF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66CE-7D75-4C98-AE72-9CC0E4987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6C83-3F93-4C2A-8D38-8DC3BA09F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CC86-5C3B-4C66-B4BA-A2ADB707A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5BEB-8381-4366-BDCA-B3955F8FE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09A8-D5CB-4948-9D0B-FA55E1A4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erlin Sans FB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erlin Sans FB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erlin Sans FB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erlin Sans FB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erlin Sans FB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erlin Sans FB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erlin Sans FB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erlin Sans FB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erlin Sans FB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0EBEA-C7ED-46A0-B81F-E7C3FDB92FB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Berlin Sans FB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Berlin Sans FB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Berlin Sans FB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Berlin Sans FB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erlin Sans FB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erlin Sans FB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erlin Sans FB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erlin Sans FB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erlin Sans FB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84E17-8337-46E5-BAC5-900E11F32FB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Berlin Sans FB"/>
              </a:rPr>
              <a:t>Researcher’s Toolbox </a:t>
            </a:r>
            <a:br>
              <a:rPr sz="5400"/>
            </a:br>
            <a:r>
              <a:rPr b="0" lang="en-US" sz="5400" spc="-1" strike="noStrike">
                <a:solidFill>
                  <a:srgbClr val="333399"/>
                </a:solidFill>
                <a:latin typeface="Berlin Sans FB"/>
              </a:rPr>
              <a:t>for Education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Berlin Sans FB"/>
              </a:rPr>
              <a:t>Educational Leadership 701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Berlin Sans FB"/>
              </a:rPr>
              <a:t>Polk Library Servi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47960" y="1752480"/>
            <a:ext cx="419076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rlin Sans FB"/>
              </a:rPr>
              <a:t>Interlibrary Loan (IL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Request books and  articles not owned by Polk Libra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rlin Sans FB"/>
              </a:rPr>
              <a:t>Universal Borrowing (U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Request books or audiovisual materials from other UW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rlin Sans FB"/>
              </a:rPr>
              <a:t>Your Reco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Renew materials and monitor U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04560" y="1980720"/>
            <a:ext cx="380988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rlin Sans FB"/>
              </a:rPr>
              <a:t>Off-Campus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Polk Library’s online resources are available off-camp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Always access through the Polk Library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If you experience problems please contact u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4648320" y="5486400"/>
            <a:ext cx="4267080" cy="1313640"/>
          </a:xfrm>
          <a:prstGeom prst="rect">
            <a:avLst/>
          </a:prstGeom>
          <a:solidFill>
            <a:srgbClr val="00e4a8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Access using your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1)Your 16-digit Titan Card number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2)Your Last Name</a:t>
            </a:r>
            <a:endParaRPr b="0" lang="en-US" sz="2000" spc="-1" strike="noStrike">
              <a:solidFill>
                <a:srgbClr val="000000"/>
              </a:solidFill>
              <a:latin typeface="Berlin Sans FB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609480" y="5181480"/>
            <a:ext cx="3353040" cy="1472400"/>
          </a:xfrm>
          <a:prstGeom prst="rect">
            <a:avLst/>
          </a:prstGeom>
          <a:solidFill>
            <a:srgbClr val="00e4a8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Access using your:</a:t>
            </a:r>
            <a:endParaRPr b="0" lang="en-US" sz="2000" spc="-1" strike="noStrike">
              <a:solidFill>
                <a:srgbClr val="000000"/>
              </a:solidFill>
              <a:latin typeface="Berlin Sans FB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Your email username and password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Berlin Sans FB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Berlin Sans FB"/>
              </a:rPr>
              <a:t>Your Titancard is Your Library Car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190760" y="2438280"/>
            <a:ext cx="47242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your Titancard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heck out library and reserve material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new library materials onli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quest materials through Universal Borrow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lace Interlibrary reques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 the Photo and Microfilm copiers (Titian dollars)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Text Box 19"/>
          <p:cNvSpPr/>
          <p:nvPr/>
        </p:nvSpPr>
        <p:spPr>
          <a:xfrm>
            <a:off x="1219320" y="2819520"/>
            <a:ext cx="1828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erlin Sans FB"/>
            </a:endParaRPr>
          </a:p>
        </p:txBody>
      </p:sp>
      <p:pic>
        <p:nvPicPr>
          <p:cNvPr id="109" name="Picture 20" descr=""/>
          <p:cNvPicPr/>
          <p:nvPr/>
        </p:nvPicPr>
        <p:blipFill>
          <a:blip r:embed="rId1"/>
          <a:stretch/>
        </p:blipFill>
        <p:spPr>
          <a:xfrm>
            <a:off x="914400" y="3200400"/>
            <a:ext cx="3048120" cy="1943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Berlin Sans FB"/>
              </a:rPr>
              <a:t>Working with a Research Ques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What is your topic area of research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lin Sans FB"/>
              </a:rPr>
              <a:t>Is informal assessment a reliable and valid method of evaluating students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Provides a list of concepts or idea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lin Sans FB"/>
              </a:rPr>
              <a:t>Is </a:t>
            </a:r>
            <a:r>
              <a:rPr b="0" lang="en-US" sz="2800" spc="-1" strike="noStrike">
                <a:solidFill>
                  <a:srgbClr val="3333cc"/>
                </a:solidFill>
                <a:latin typeface="Berlin Sans FB"/>
              </a:rPr>
              <a:t>informal assessment</a:t>
            </a:r>
            <a:r>
              <a:rPr b="0" lang="en-US" sz="2800" spc="-1" strike="noStrike">
                <a:solidFill>
                  <a:srgbClr val="000000"/>
                </a:solidFill>
                <a:latin typeface="Berlin Sans FB"/>
              </a:rPr>
              <a:t> a </a:t>
            </a:r>
            <a:r>
              <a:rPr b="0" lang="en-US" sz="2800" spc="-1" strike="noStrike">
                <a:solidFill>
                  <a:srgbClr val="3333cc"/>
                </a:solidFill>
                <a:latin typeface="Berlin Sans FB"/>
              </a:rPr>
              <a:t>reliable</a:t>
            </a:r>
            <a:r>
              <a:rPr b="0" lang="en-US" sz="2800" spc="-1" strike="noStrike">
                <a:solidFill>
                  <a:srgbClr val="000000"/>
                </a:solidFill>
                <a:latin typeface="Berlin Sans FB"/>
              </a:rPr>
              <a:t> and </a:t>
            </a:r>
            <a:r>
              <a:rPr b="0" lang="en-US" sz="2800" spc="-1" strike="noStrike">
                <a:solidFill>
                  <a:srgbClr val="3333cc"/>
                </a:solidFill>
                <a:latin typeface="Berlin Sans FB"/>
              </a:rPr>
              <a:t>valid</a:t>
            </a:r>
            <a:r>
              <a:rPr b="0" lang="en-US" sz="2800" spc="-1" strike="noStrike">
                <a:solidFill>
                  <a:srgbClr val="000000"/>
                </a:solidFill>
                <a:latin typeface="Berlin Sans FB"/>
              </a:rPr>
              <a:t> method of evaluating </a:t>
            </a:r>
            <a:r>
              <a:rPr b="0" lang="en-US" sz="2800" spc="-1" strike="noStrike">
                <a:solidFill>
                  <a:srgbClr val="3333cc"/>
                </a:solidFill>
                <a:latin typeface="Berlin Sans FB"/>
              </a:rPr>
              <a:t>students</a:t>
            </a:r>
            <a:r>
              <a:rPr b="0" lang="en-US" sz="2800" spc="-1" strike="noStrike">
                <a:solidFill>
                  <a:srgbClr val="000000"/>
                </a:solidFill>
                <a:latin typeface="Berlin Sans FB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Helps you determine if your topic is too broad or too narrow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Berlin Sans FB"/>
              </a:rPr>
              <a:t> </a:t>
            </a:r>
            <a:r>
              <a:rPr b="0" lang="en-US" sz="4000" spc="-1" strike="noStrike">
                <a:solidFill>
                  <a:srgbClr val="333399"/>
                </a:solidFill>
                <a:latin typeface="Berlin Sans FB"/>
              </a:rPr>
              <a:t>Putting together a Search  Vocabulary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43000" y="194760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Berlin Sans FB"/>
              </a:rPr>
              <a:t>Are there any synonyms or related terms?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9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lin Sans FB"/>
              </a:rPr>
              <a:t>Evaluation/assessment/tes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9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lin Sans FB"/>
              </a:rPr>
              <a:t>Academic Success/Academic Achieve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9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lin Sans FB"/>
              </a:rPr>
              <a:t>Teacher performance/Teacher Competencie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5960" indent="-34596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Berlin Sans FB"/>
              </a:rPr>
              <a:t>What are broader and narrower ter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9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lin Sans FB"/>
              </a:rPr>
              <a:t>Evaluation-informal assessment/needs assess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5960" indent="-34596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Berlin Sans FB"/>
              </a:rPr>
              <a:t>Can the terms plural, singular or a word variation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9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lin Sans FB"/>
              </a:rPr>
              <a:t>Student/Student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9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lin Sans FB"/>
              </a:rPr>
              <a:t>Test/tes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5960" indent="-34596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Berlin Sans FB"/>
              </a:rPr>
              <a:t>Does any of the terms have other meaning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9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lin Sans FB"/>
              </a:rPr>
              <a:t>AD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5960" indent="-34596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Berlin Sans FB"/>
              </a:rPr>
              <a:t>Undefined Concep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937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lin Sans FB"/>
              </a:rPr>
              <a:t>Benefit/disadvantage/impact/effec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5960" indent="-34596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Berlin Sans FB"/>
              </a:rPr>
              <a:t>How does the resource define the concep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9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lin Sans FB"/>
              </a:rPr>
              <a:t>Disruptive Behavi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Berlin Sans FB"/>
              </a:rPr>
              <a:t>– Behavior Proble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9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lin Sans FB"/>
              </a:rPr>
              <a:t>Assessment</a:t>
            </a:r>
            <a:r>
              <a:rPr b="0" lang="en-US" sz="1800" spc="-1" strike="noStrike">
                <a:solidFill>
                  <a:srgbClr val="ff0000"/>
                </a:solidFill>
                <a:latin typeface="Berlin Sans FB"/>
              </a:rPr>
              <a:t>-evaluation/tes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8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Berlin Sans FB"/>
              </a:rPr>
              <a:t>Finding Word Variation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810240" cy="25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rlin Sans FB"/>
              </a:rPr>
              <a:t>Trun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The addition of symbol to the end of a root word to retrieve variant ending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Usually a ? or *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Find both the singular and plural for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5679000" y="2590920"/>
            <a:ext cx="94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Berlin Sans FB"/>
              </a:rPr>
              <a:t>test</a:t>
            </a:r>
            <a:r>
              <a:rPr b="1" lang="en-US" sz="2400" spc="-1" strike="noStrike">
                <a:solidFill>
                  <a:srgbClr val="ff0000"/>
                </a:solidFill>
                <a:latin typeface="Berlin Sans FB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Berlin Sans FB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5715000" y="3200400"/>
            <a:ext cx="12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Berlin Sans FB"/>
              </a:rPr>
              <a:t>test</a:t>
            </a:r>
            <a:r>
              <a:rPr b="1" lang="en-US" sz="2400" spc="-1" strike="noStrike">
                <a:solidFill>
                  <a:srgbClr val="000000"/>
                </a:solidFill>
                <a:latin typeface="Berlin Sans FB"/>
              </a:rPr>
              <a:t>, </a:t>
            </a:r>
            <a:r>
              <a:rPr b="1" lang="en-US" sz="2400" spc="-1" strike="noStrike">
                <a:solidFill>
                  <a:srgbClr val="3333cc"/>
                </a:solidFill>
                <a:latin typeface="Berlin Sans FB"/>
              </a:rPr>
              <a:t>test</a:t>
            </a:r>
            <a:r>
              <a:rPr b="1" lang="en-US" sz="2400" spc="-1" strike="noStrike">
                <a:solidFill>
                  <a:srgbClr val="ff0000"/>
                </a:solidFill>
                <a:latin typeface="Berlin Sans FB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Berlin Sans FB"/>
              </a:rPr>
              <a:t>test</a:t>
            </a:r>
            <a:r>
              <a:rPr b="1" lang="en-US" sz="2400" spc="-1" strike="noStrike">
                <a:solidFill>
                  <a:srgbClr val="ff0000"/>
                </a:solidFill>
                <a:latin typeface="Berlin Sans FB"/>
              </a:rPr>
              <a:t>ing</a:t>
            </a:r>
            <a:endParaRPr b="0" lang="en-US" sz="2400" spc="-1" strike="noStrike">
              <a:solidFill>
                <a:srgbClr val="000000"/>
              </a:solidFill>
              <a:latin typeface="Berlin Sans FB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Berlin Sans FB"/>
              </a:rPr>
              <a:t>Narrowing or Broadening your Search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2514600"/>
            <a:ext cx="3814560" cy="16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erlin Sans FB"/>
              </a:rPr>
              <a:t>The most frequently used operat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erlin Sans FB"/>
              </a:rPr>
              <a:t>Looks for both terms in the recor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erlin Sans FB"/>
              </a:rPr>
              <a:t>Always makes the search results small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533520" y="4952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erlin Sans FB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1066680" y="495288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erlin Sans FB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4952880" y="335268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Informal assessment and validity</a:t>
            </a:r>
            <a:endParaRPr b="0" lang="en-US" sz="2000" spc="-1" strike="noStrike">
              <a:solidFill>
                <a:srgbClr val="000000"/>
              </a:solidFill>
              <a:latin typeface="Berlin Sans FB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609480" y="2057400"/>
            <a:ext cx="231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AND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 (narrows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Berlin Sans FB"/>
            </a:endParaRPr>
          </a:p>
        </p:txBody>
      </p:sp>
      <p:sp>
        <p:nvSpPr>
          <p:cNvPr id="124" name="Rectangle 10"/>
          <p:cNvSpPr/>
          <p:nvPr/>
        </p:nvSpPr>
        <p:spPr>
          <a:xfrm>
            <a:off x="762120" y="4876920"/>
            <a:ext cx="4800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erlin Sans FB"/>
              </a:rPr>
              <a:t>Expands your search by locating either term in the record</a:t>
            </a:r>
            <a:endParaRPr b="0" lang="en-US" sz="2200" spc="-1" strike="noStrike">
              <a:solidFill>
                <a:srgbClr val="000000"/>
              </a:solidFill>
              <a:latin typeface="Berlin Sans FB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erlin Sans FB"/>
              </a:rPr>
              <a:t>Useful for searching</a:t>
            </a:r>
            <a:endParaRPr b="0" lang="en-US" sz="2200" spc="-1" strike="noStrike">
              <a:solidFill>
                <a:srgbClr val="000000"/>
              </a:solidFill>
              <a:latin typeface="Berlin Sans FB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lin Sans FB"/>
              </a:rPr>
              <a:t>Synonyms</a:t>
            </a:r>
            <a:endParaRPr b="0" lang="en-US" sz="1800" spc="-1" strike="noStrike">
              <a:solidFill>
                <a:srgbClr val="000000"/>
              </a:solidFill>
              <a:latin typeface="Berlin Sans FB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lin Sans FB"/>
              </a:rPr>
              <a:t>Related terms</a:t>
            </a:r>
            <a:endParaRPr b="0" lang="en-US" sz="1800" spc="-1" strike="noStrike">
              <a:solidFill>
                <a:srgbClr val="000000"/>
              </a:solidFill>
              <a:latin typeface="Berlin Sans FB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lin Sans FB"/>
              </a:rPr>
              <a:t>Comparisons</a:t>
            </a:r>
            <a:endParaRPr b="0" lang="en-US" sz="1800" spc="-1" strike="noStrike">
              <a:solidFill>
                <a:srgbClr val="000000"/>
              </a:solidFill>
              <a:latin typeface="Berlin Sans FB"/>
            </a:endParaRPr>
          </a:p>
        </p:txBody>
      </p:sp>
      <p:sp>
        <p:nvSpPr>
          <p:cNvPr id="125" name="Text Box 11"/>
          <p:cNvSpPr/>
          <p:nvPr/>
        </p:nvSpPr>
        <p:spPr>
          <a:xfrm>
            <a:off x="535320" y="449568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OR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(Broadens)</a:t>
            </a:r>
            <a:endParaRPr b="0" lang="en-US" sz="2400" spc="-1" strike="noStrike">
              <a:solidFill>
                <a:srgbClr val="000000"/>
              </a:solidFill>
              <a:latin typeface="Berlin Sans FB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5257800" y="579132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validity or reliability</a:t>
            </a:r>
            <a:endParaRPr b="0" lang="en-US" sz="2000" spc="-1" strike="noStrike">
              <a:solidFill>
                <a:srgbClr val="000000"/>
              </a:solidFill>
              <a:latin typeface="Berlin Sans FB"/>
            </a:endParaRPr>
          </a:p>
        </p:txBody>
      </p:sp>
      <p:pic>
        <p:nvPicPr>
          <p:cNvPr id="127" name="Picture 13" descr=""/>
          <p:cNvPicPr/>
          <p:nvPr/>
        </p:nvPicPr>
        <p:blipFill>
          <a:blip r:embed="rId1"/>
          <a:stretch/>
        </p:blipFill>
        <p:spPr>
          <a:xfrm>
            <a:off x="5943600" y="4191120"/>
            <a:ext cx="2374920" cy="1511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8" name="Object 14"/>
          <p:cNvGraphicFramePr/>
          <p:nvPr/>
        </p:nvGraphicFramePr>
        <p:xfrm>
          <a:off x="5562720" y="1828800"/>
          <a:ext cx="2438280" cy="164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9" name="Object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62720" y="1828800"/>
                    <a:ext cx="2438280" cy="16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Berlin Sans FB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Berlin Sans FB"/>
              </a:rPr>
              <a:t>Do you have Limit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2819160"/>
            <a:ext cx="7772400" cy="293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Limiters are special conditions that are required for the assig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lin Sans FB"/>
              </a:rPr>
              <a:t>Articles published in the last 10 yea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lin Sans FB"/>
              </a:rPr>
              <a:t>Peer Reviewed jour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lin Sans FB"/>
              </a:rPr>
              <a:t>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lin Sans FB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9T19:37:08Z</dcterms:created>
  <dc:creator>UW Oshkosh</dc:creator>
  <dc:description/>
  <dc:language>en-US</dc:language>
  <cp:lastModifiedBy> </cp:lastModifiedBy>
  <cp:lastPrinted>2002-01-31T19:04:35Z</cp:lastPrinted>
  <dcterms:modified xsi:type="dcterms:W3CDTF">2010-09-29T22:51:29Z</dcterms:modified>
  <cp:revision>48</cp:revision>
  <dc:subject/>
  <dc:title>Researcher’s Toolbox  for Education</dc:title>
</cp:coreProperties>
</file>